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40A0A-EFF1-4577-BB37-1DF7A7122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AACFC-8B15-41DE-9C23-9F319B943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0F966-E8B7-4822-B1D4-5640E3BCF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DA224-C8FD-4C56-AD8A-A1D4FF3BD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48111-681C-47C7-BE44-8952F095A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F922170-9A89-4DA9-AD4F-A67B1AB5E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3904E1F-C5DC-4AA5-BBD2-9A556A2E7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8DB73A6-D9A1-48F2-AE1A-3A3BB37EE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BD70BF1-44FE-428A-AD77-13F70C2A9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A5A700F-8DC1-4AC5-BFDC-0F097DAB7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52A7C-252A-4D02-8257-51FCFB30F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1370E46-E799-4783-8100-EFEC51C9B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9D75478-5967-4573-A067-142C3453A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5F7DE7A-6A11-4020-B04E-447AEE7D9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8302C2B-3147-4F6B-9487-D5878B2FF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B97DBFF-F488-4997-B990-903AC7CD5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0D9C20F-FB67-4871-B1BB-24877A4BC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C98A26E-CD98-4FCA-8A32-15330C961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13FEC-3C9A-46C8-A32B-58354BD01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B8D16-29B6-4292-8491-65232D08A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DCECC-C227-423A-B86D-90373BA79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DF3D0-6046-4610-9788-AF5CC2CC2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976D0-CAB1-4F8D-BA48-AFD65CE28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A7BA8-3DE3-4C57-85D1-192ED76CE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A58BED8-6764-476A-BF3E-9B64AD166222}" type="datetime">
              <a:rPr b="0" lang="en-US" sz="1000" spc="-1" strike="noStrike">
                <a:solidFill>
                  <a:srgbClr val="595959"/>
                </a:solidFill>
                <a:latin typeface="Century Gothic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790120" y="65685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8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D30E56-21A5-4FA4-87B3-B39CB70CCD33}" type="slidenum">
              <a:rPr b="0" lang="en-US" sz="8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Rectangle 7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6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3DE964-19B4-4DBC-8EBC-77CD23EC1173}" type="datetime">
              <a:rPr b="0" lang="en-US" sz="1000" spc="-1" strike="noStrike">
                <a:solidFill>
                  <a:srgbClr val="595959"/>
                </a:solidFill>
                <a:latin typeface="Century Gothic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6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7" name="Straight Connector 8"/>
          <p:cNvSpPr/>
          <p:nvPr/>
        </p:nvSpPr>
        <p:spPr>
          <a:xfrm>
            <a:off x="1211400" y="2905200"/>
            <a:ext cx="3384360" cy="1440"/>
          </a:xfrm>
          <a:prstGeom prst="line">
            <a:avLst/>
          </a:prstGeom>
          <a:ln w="38160">
            <a:solidFill>
              <a:srgbClr val="d6d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8" name="Straight Connector 9"/>
          <p:cNvSpPr/>
          <p:nvPr/>
        </p:nvSpPr>
        <p:spPr>
          <a:xfrm>
            <a:off x="5238720" y="2905200"/>
            <a:ext cx="3382920" cy="1440"/>
          </a:xfrm>
          <a:prstGeom prst="line">
            <a:avLst/>
          </a:prstGeom>
          <a:ln w="38160">
            <a:solidFill>
              <a:srgbClr val="d6d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9" name="Straight Connector 10"/>
          <p:cNvSpPr/>
          <p:nvPr/>
        </p:nvSpPr>
        <p:spPr>
          <a:xfrm>
            <a:off x="1211400" y="2905200"/>
            <a:ext cx="3384360" cy="1440"/>
          </a:xfrm>
          <a:prstGeom prst="line">
            <a:avLst/>
          </a:prstGeom>
          <a:ln w="38160">
            <a:solidFill>
              <a:srgbClr val="d6d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0" name="Straight Connector 11"/>
          <p:cNvSpPr/>
          <p:nvPr/>
        </p:nvSpPr>
        <p:spPr>
          <a:xfrm>
            <a:off x="5238720" y="2905200"/>
            <a:ext cx="3382920" cy="1440"/>
          </a:xfrm>
          <a:prstGeom prst="line">
            <a:avLst/>
          </a:prstGeom>
          <a:ln w="38160">
            <a:solidFill>
              <a:srgbClr val="d6d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1" name="Straight Connector 12"/>
          <p:cNvSpPr/>
          <p:nvPr/>
        </p:nvSpPr>
        <p:spPr>
          <a:xfrm>
            <a:off x="1211400" y="2905200"/>
            <a:ext cx="3384360" cy="1440"/>
          </a:xfrm>
          <a:prstGeom prst="line">
            <a:avLst/>
          </a:prstGeom>
          <a:ln w="38160">
            <a:solidFill>
              <a:srgbClr val="d6d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" name="Straight Connector 13"/>
          <p:cNvSpPr/>
          <p:nvPr/>
        </p:nvSpPr>
        <p:spPr>
          <a:xfrm>
            <a:off x="5238720" y="2905200"/>
            <a:ext cx="3382920" cy="1440"/>
          </a:xfrm>
          <a:prstGeom prst="line">
            <a:avLst/>
          </a:prstGeom>
          <a:ln w="38160">
            <a:solidFill>
              <a:srgbClr val="d6d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dt" idx="6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FCFBE53-5339-4587-A09E-1FB49E4E07AB}" type="datetime">
              <a:rPr b="0" lang="en-US" sz="1000" spc="-1" strike="noStrike">
                <a:solidFill>
                  <a:srgbClr val="595959"/>
                </a:solidFill>
                <a:latin typeface="Century Gothic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ftr" idx="7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sldNum" idx="8"/>
          </p:nvPr>
        </p:nvSpPr>
        <p:spPr>
          <a:xfrm>
            <a:off x="8790120" y="65685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8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CE8AFA-7BD1-47B7-9AFA-6841F0F80006}" type="slidenum">
              <a:rPr b="0" lang="en-US" sz="8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6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5" name="Rectangle 7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9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2575ED-4CCE-4F16-AA3D-6DE8E3C058F4}" type="datetime">
              <a:rPr b="0" lang="en-US" sz="1000" spc="-1" strike="noStrike">
                <a:solidFill>
                  <a:srgbClr val="595959"/>
                </a:solidFill>
                <a:latin typeface="Century Gothic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0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1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FD0614-AC9C-4DA7-AC24-E91EBE0AB06A}" type="datetime">
              <a:rPr b="0" lang="en-US" sz="1000" spc="-1" strike="noStrike">
                <a:solidFill>
                  <a:srgbClr val="595959"/>
                </a:solidFill>
                <a:latin typeface="Century Gothic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2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6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9" name="Rectangle 7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3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A1030A4-0EDF-4898-8A3C-E298BE330D78}" type="datetime">
              <a:rPr b="0" lang="en-US" sz="1000" spc="-1" strike="noStrike">
                <a:solidFill>
                  <a:srgbClr val="595959"/>
                </a:solidFill>
                <a:latin typeface="Century Gothic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4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schoolhistory.co.uk/year9links/industrial/population.pdf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-360" y="2157480"/>
            <a:ext cx="8915400" cy="87768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merican Typewriter Condensed"/>
              </a:rPr>
              <a:t>Industrial Revolution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914040" y="3034800"/>
            <a:ext cx="8001000" cy="382284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txBody>
          <a:bodyPr lIns="292680" rIns="274320" tIns="91440" bIns="91440" anchor="t">
            <a:no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entury Gothic"/>
              </a:rPr>
              <a:t>Mr. Rush</a:t>
            </a:r>
            <a:endParaRPr b="0" lang="en-US" sz="1800" spc="-1" strike="noStrike">
              <a:solidFill>
                <a:srgbClr val="595959"/>
              </a:solidFill>
              <a:latin typeface="Century Gothic"/>
            </a:endParaRPr>
          </a:p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entury Gothic"/>
              </a:rPr>
              <a:t>Go Muskies!</a:t>
            </a:r>
            <a:endParaRPr b="0" lang="en-US" sz="1800" spc="-1" strike="noStrike">
              <a:solidFill>
                <a:srgbClr val="595959"/>
              </a:solidFill>
              <a:latin typeface="Century Gothic"/>
            </a:endParaRPr>
          </a:p>
        </p:txBody>
      </p:sp>
      <p:pic>
        <p:nvPicPr>
          <p:cNvPr id="262" name="Picture 3" descr="j0198352.pict"/>
          <p:cNvPicPr/>
          <p:nvPr/>
        </p:nvPicPr>
        <p:blipFill>
          <a:blip r:embed="rId1"/>
          <a:stretch/>
        </p:blipFill>
        <p:spPr>
          <a:xfrm>
            <a:off x="1254240" y="3833640"/>
            <a:ext cx="2311200" cy="236232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4" descr="j0234645.pict"/>
          <p:cNvPicPr/>
          <p:nvPr/>
        </p:nvPicPr>
        <p:blipFill>
          <a:blip r:embed="rId2"/>
          <a:stretch/>
        </p:blipFill>
        <p:spPr>
          <a:xfrm>
            <a:off x="4200480" y="4138560"/>
            <a:ext cx="1498680" cy="154944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5" descr="j0199128.pict"/>
          <p:cNvPicPr/>
          <p:nvPr/>
        </p:nvPicPr>
        <p:blipFill>
          <a:blip r:embed="rId3"/>
          <a:stretch/>
        </p:blipFill>
        <p:spPr>
          <a:xfrm>
            <a:off x="5959440" y="4138560"/>
            <a:ext cx="1994040" cy="124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Today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20320" y="2017800"/>
            <a:ext cx="3565800" cy="877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entury Gothic"/>
              </a:rPr>
              <a:t>What we will do today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1120320" y="3065040"/>
            <a:ext cx="3565800" cy="32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entury Gothic"/>
              </a:rPr>
              <a:t>Anticipation Guide</a:t>
            </a:r>
            <a:endParaRPr b="0" lang="en-US" sz="1800" spc="-1" strike="noStrike">
              <a:solidFill>
                <a:srgbClr val="595959"/>
              </a:solidFill>
              <a:latin typeface="Century Gothic"/>
            </a:endParaRPr>
          </a:p>
          <a:p>
            <a:pPr marL="343080" indent="-34308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entury Gothic"/>
              </a:rPr>
              <a:t>Why Great Britain</a:t>
            </a:r>
            <a:endParaRPr b="0" lang="en-US" sz="1800" spc="-1" strike="noStrike">
              <a:solidFill>
                <a:srgbClr val="595959"/>
              </a:solidFill>
              <a:latin typeface="Century Gothic"/>
            </a:endParaRPr>
          </a:p>
          <a:p>
            <a:pPr marL="343080" indent="-34308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entury Gothic"/>
              </a:rPr>
              <a:t>Chart Industrial Revolution</a:t>
            </a:r>
            <a:endParaRPr b="0" lang="en-US" sz="18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5148360" y="2017800"/>
            <a:ext cx="3565440" cy="877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entury Gothic"/>
              </a:rPr>
              <a:t>Objectives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5148360" y="3065040"/>
            <a:ext cx="3565440" cy="32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Century Gothic"/>
              </a:rPr>
              <a:t>Explain the causes and effects of the Industrial Revolution with emphasis on:</a:t>
            </a:r>
            <a:endParaRPr b="0" lang="en-US" sz="1500" spc="-1" strike="noStrike">
              <a:solidFill>
                <a:srgbClr val="59595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Century Gothic"/>
              </a:rPr>
              <a:t>How scientific and technological changes promoted industrialization in the textile industry in England; </a:t>
            </a:r>
            <a:endParaRPr b="0" lang="en-US" sz="1500" spc="-1" strike="noStrike">
              <a:solidFill>
                <a:srgbClr val="59595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Century Gothic"/>
              </a:rPr>
              <a:t>The impact of the growth of population, rural-to-urban migrations, growth of industrial cities, and emigration out of Europe; </a:t>
            </a:r>
            <a:endParaRPr b="0" lang="en-US" sz="1500" spc="-1" strike="noStrike">
              <a:solidFill>
                <a:srgbClr val="59595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595959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Anticipation Guide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entury Gothic"/>
              </a:rPr>
              <a:t>Directions:  Place a check by those you think that are true.  Then, read pages 235-247 and write down the page, paragraph and part of the sentence where you found the answer. </a:t>
            </a:r>
            <a:endParaRPr b="0" lang="en-US" sz="3200" spc="-1" strike="noStrike">
              <a:solidFill>
                <a:srgbClr val="595959"/>
              </a:solidFill>
              <a:latin typeface="Century Gothic"/>
            </a:endParaRPr>
          </a:p>
          <a:p>
            <a:pPr marL="343080" indent="-34308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Anticipation Guide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1114560" y="2562120"/>
            <a:ext cx="761040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   </a:t>
            </a: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____ 1.  Britain was the first place where the Industrial Revolution began. 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marL="343080" indent="-34308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Page:  _______ Paragraph: ______   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marL="343080" indent="-34308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ntence: ________________________________________________________________________________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marL="343080" indent="-34308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Anticipation Guide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____ 2.  Jethro Tull was the first to invent the cotton gin.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marL="343080" indent="-34308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Page:  _______ Paragraph: ______  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marL="343080" indent="-34308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ntence: ________________________________________________________________________________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marL="343080" indent="-34308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Anticipation Guide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_____ 3.  During the Industrial Revolution, electricity was first used to power factories.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marL="343080" indent="-34308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 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marL="343080" indent="-34308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Page:  _______ Paragraph: ______  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marL="343080" indent="-34308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 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marL="343080" indent="-34308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ntence: ________________________________________________________________________________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marL="343080" indent="-34308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Anticipation Guide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marL="343080" indent="-34308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______ 4.  More and more people moved to the cities because farming technology improved. 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marL="343080" indent="-34308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Page:  _______ Paragraph: ______  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marL="343080" indent="-34308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ntence: ________________________________________________________________________________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marL="343080" indent="-34308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Anticipation Guide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____ 5.  The Industrial Revolution significantly improved the lives of the people.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marL="343080" indent="-34308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Page:  _______ Paragraph: ______  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marL="343080" indent="-34308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ntence: ________________________________________________________________________________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 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marL="343080" indent="-34308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Today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120320" y="2017800"/>
            <a:ext cx="3565800" cy="877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entury Gothic"/>
              </a:rPr>
              <a:t>What we will do today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1120320" y="3065040"/>
            <a:ext cx="3565800" cy="32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entury Gothic"/>
              </a:rPr>
              <a:t>Anticipation Guide</a:t>
            </a:r>
            <a:endParaRPr b="0" lang="en-US" sz="1800" spc="-1" strike="noStrike">
              <a:solidFill>
                <a:srgbClr val="595959"/>
              </a:solidFill>
              <a:latin typeface="Century Gothic"/>
            </a:endParaRPr>
          </a:p>
          <a:p>
            <a:pPr marL="343080" indent="-34308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entury Gothic"/>
              </a:rPr>
              <a:t>Why Great Britain</a:t>
            </a:r>
            <a:endParaRPr b="0" lang="en-US" sz="1800" spc="-1" strike="noStrike">
              <a:solidFill>
                <a:srgbClr val="595959"/>
              </a:solidFill>
              <a:latin typeface="Century Gothic"/>
            </a:endParaRPr>
          </a:p>
          <a:p>
            <a:pPr marL="343080" indent="-34308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entury Gothic"/>
              </a:rPr>
              <a:t>Chart Industrial Revolution</a:t>
            </a:r>
            <a:endParaRPr b="0" lang="en-US" sz="18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5148360" y="2017800"/>
            <a:ext cx="3565440" cy="877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entury Gothic"/>
              </a:rPr>
              <a:t>Objectives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5347800" y="2895120"/>
            <a:ext cx="3565800" cy="32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Century Gothic"/>
              </a:rPr>
              <a:t>Interpret data to make comparisons between and among countries and regions including:</a:t>
            </a:r>
            <a:endParaRPr b="0" lang="en-US" sz="1400" spc="-1" strike="noStrike">
              <a:solidFill>
                <a:srgbClr val="595959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Century Gothic"/>
              </a:rPr>
              <a:t>Birth rates;</a:t>
            </a:r>
            <a:endParaRPr b="0" lang="en-US" sz="1400" spc="-1" strike="noStrike">
              <a:solidFill>
                <a:srgbClr val="595959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Century Gothic"/>
              </a:rPr>
              <a:t>Death rates;</a:t>
            </a:r>
            <a:endParaRPr b="0" lang="en-US" sz="1400" spc="-1" strike="noStrike">
              <a:solidFill>
                <a:srgbClr val="595959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Century Gothic"/>
              </a:rPr>
              <a:t>Infant mortality rates;</a:t>
            </a:r>
            <a:endParaRPr b="0" lang="en-US" sz="1400" spc="-1" strike="noStrike">
              <a:solidFill>
                <a:srgbClr val="595959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Century Gothic"/>
              </a:rPr>
              <a:t>Education levels;</a:t>
            </a:r>
            <a:endParaRPr b="0" lang="en-US" sz="1400" spc="-1" strike="noStrike">
              <a:solidFill>
                <a:srgbClr val="595959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Century Gothic"/>
              </a:rPr>
              <a:t>Per capita Gross Domestic Product (GDP). This cell was part of People in societies </a:t>
            </a:r>
            <a:endParaRPr b="0" lang="en-US" sz="1400" spc="-1" strike="noStrike">
              <a:solidFill>
                <a:srgbClr val="595959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Industrial Revolution Char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Go to this website: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how how things changed over time with the Industrial Revolution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.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Graphs about the Industrial Revolution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 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8da440"/>
                </a:solidFill>
                <a:uFillTx/>
                <a:latin typeface="Century Gothic"/>
                <a:hlinkClick r:id="rId1"/>
              </a:rPr>
              <a:t>http://www.schoolhistory.co.uk/year9links/industrial/population.pdf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Today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20320" y="2017800"/>
            <a:ext cx="3565800" cy="877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entury Gothic"/>
              </a:rPr>
              <a:t>What we will do today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1120320" y="3065040"/>
            <a:ext cx="3565800" cy="32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entury Gothic"/>
              </a:rPr>
              <a:t>Collins- Most Important Invention</a:t>
            </a:r>
            <a:endParaRPr b="0" lang="en-US" sz="1800" spc="-1" strike="noStrike">
              <a:solidFill>
                <a:srgbClr val="595959"/>
              </a:solidFill>
              <a:latin typeface="Century Gothic"/>
            </a:endParaRPr>
          </a:p>
          <a:p>
            <a:pPr marL="343080" indent="-34308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entury Gothic"/>
              </a:rPr>
              <a:t>What was the most important Invention during the Industrial Revolution</a:t>
            </a:r>
            <a:endParaRPr b="0" lang="en-US" sz="18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5148360" y="2017800"/>
            <a:ext cx="3565440" cy="877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entury Gothic"/>
              </a:rPr>
              <a:t>Objectives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5148360" y="3065040"/>
            <a:ext cx="3565440" cy="32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Century Gothic"/>
              </a:rPr>
              <a:t>Explain the causes and effects of the Industrial Revolution with emphasis on:</a:t>
            </a:r>
            <a:endParaRPr b="0" lang="en-US" sz="1100" spc="-1" strike="noStrike">
              <a:solidFill>
                <a:srgbClr val="595959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Century Gothic"/>
              </a:rPr>
              <a:t>How scientific and technological changes promoted industrialization in the textile industry in England; </a:t>
            </a:r>
            <a:endParaRPr b="0" lang="en-US" sz="1100" spc="-1" strike="noStrike">
              <a:solidFill>
                <a:srgbClr val="595959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Century Gothic"/>
              </a:rPr>
              <a:t>The impact of the growth of population, rural-to-urban migrations, growth of industrial cities, and emigration out of Europe; </a:t>
            </a:r>
            <a:endParaRPr b="0" lang="en-US" sz="1100" spc="-1" strike="noStrike">
              <a:solidFill>
                <a:srgbClr val="595959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Century Gothic"/>
              </a:rPr>
              <a:t>Compare how different economic systems answer the fundamental questions of what goods and services to produce, how to produce them and who will consume them.</a:t>
            </a:r>
            <a:endParaRPr b="0" lang="en-US" sz="1100" spc="-1" strike="noStrike">
              <a:solidFill>
                <a:srgbClr val="595959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595959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595959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Technology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What is the most important technology you have in your life?  Why is this the most important? How different would your life be if you did not have this technology?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85800" indent="-336600">
              <a:spcBef>
                <a:spcPts val="6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entury Gothic"/>
              </a:rPr>
              <a:t>10-15 lines</a:t>
            </a:r>
            <a:endParaRPr b="0" lang="en-US" sz="1800" spc="-1" strike="noStrike">
              <a:solidFill>
                <a:srgbClr val="595959"/>
              </a:solidFill>
              <a:latin typeface="Century Gothic"/>
            </a:endParaRPr>
          </a:p>
          <a:p>
            <a:pPr lvl="1" marL="685800" indent="-336600">
              <a:spcBef>
                <a:spcPts val="6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entury Gothic"/>
              </a:rPr>
              <a:t>Explain what is the most important technology</a:t>
            </a:r>
            <a:endParaRPr b="0" lang="en-US" sz="1800" spc="-1" strike="noStrike">
              <a:solidFill>
                <a:srgbClr val="595959"/>
              </a:solidFill>
              <a:latin typeface="Century Gothic"/>
            </a:endParaRPr>
          </a:p>
          <a:p>
            <a:pPr lvl="1" marL="685800" indent="-336600">
              <a:spcBef>
                <a:spcPts val="6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entury Gothic"/>
              </a:rPr>
              <a:t>Explains why</a:t>
            </a:r>
            <a:endParaRPr b="0" lang="en-US" sz="1800" spc="-1" strike="noStrike">
              <a:solidFill>
                <a:srgbClr val="595959"/>
              </a:solidFill>
              <a:latin typeface="Century Gothic"/>
            </a:endParaRPr>
          </a:p>
          <a:p>
            <a:pPr lvl="1" marL="685800" indent="-336600">
              <a:spcBef>
                <a:spcPts val="6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entury Gothic"/>
              </a:rPr>
              <a:t>Explains 2 ways your life would be different </a:t>
            </a:r>
            <a:endParaRPr b="0" lang="en-US" sz="1800" spc="-1" strike="noStrike">
              <a:solidFill>
                <a:srgbClr val="595959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Technology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Discussion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Skim Technologies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244-248 in your book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marL="343080" indent="-34308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Which is the most important?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Technology Collins part 2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What is the most important invention of the Industrial Revolution?  Why ? How different would your life be if you did not have this technology?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85800" indent="-336600">
              <a:spcBef>
                <a:spcPts val="6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entury Gothic"/>
              </a:rPr>
              <a:t>10-15 lines</a:t>
            </a:r>
            <a:endParaRPr b="0" lang="en-US" sz="1800" spc="-1" strike="noStrike">
              <a:solidFill>
                <a:srgbClr val="595959"/>
              </a:solidFill>
              <a:latin typeface="Century Gothic"/>
            </a:endParaRPr>
          </a:p>
          <a:p>
            <a:pPr lvl="1" marL="685800" indent="-336600">
              <a:spcBef>
                <a:spcPts val="6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entury Gothic"/>
              </a:rPr>
              <a:t>Explain what is the most important technology</a:t>
            </a:r>
            <a:endParaRPr b="0" lang="en-US" sz="1800" spc="-1" strike="noStrike">
              <a:solidFill>
                <a:srgbClr val="595959"/>
              </a:solidFill>
              <a:latin typeface="Century Gothic"/>
            </a:endParaRPr>
          </a:p>
          <a:p>
            <a:pPr lvl="1" marL="685800" indent="-336600">
              <a:spcBef>
                <a:spcPts val="6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entury Gothic"/>
              </a:rPr>
              <a:t>Explains why</a:t>
            </a:r>
            <a:endParaRPr b="0" lang="en-US" sz="1800" spc="-1" strike="noStrike">
              <a:solidFill>
                <a:srgbClr val="595959"/>
              </a:solidFill>
              <a:latin typeface="Century Gothic"/>
            </a:endParaRPr>
          </a:p>
          <a:p>
            <a:pPr lvl="1" marL="685800" indent="-336600">
              <a:spcBef>
                <a:spcPts val="6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entury Gothic"/>
              </a:rPr>
              <a:t>Explains 2 ways your life would be different </a:t>
            </a:r>
            <a:endParaRPr b="0" lang="en-US" sz="1800" spc="-1" strike="noStrike">
              <a:solidFill>
                <a:srgbClr val="595959"/>
              </a:solidFill>
              <a:latin typeface="Century Gothic"/>
            </a:endParaRPr>
          </a:p>
          <a:p>
            <a:pPr marL="343080" indent="-34308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Technology Industrial Revolution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Discuss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Century Gothic"/>
              </a:rPr>
              <a:t>Why Great Britain started the Industrial Revolution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entury Gothic"/>
              </a:rPr>
              <a:t>Exploration and Colonization</a:t>
            </a: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- Colonies provide raw materials (wood, cotton, etc.)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marL="343080" indent="-34308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entury Gothic"/>
              </a:rPr>
              <a:t>Seapowe</a:t>
            </a: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r-Most powerful navy- could get supplies from around the world.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marL="343080" indent="-34308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entury Gothic"/>
              </a:rPr>
              <a:t>Political Stability</a:t>
            </a: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- country mostly at peace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marL="343080" indent="-34308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Government Support-pass laws to help businesses.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marL="343080" indent="-34308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Century Gothic"/>
              </a:rPr>
              <a:t>Growth of Private Investments</a:t>
            </a: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- spend $ on  research and development.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-360" y="2157480"/>
            <a:ext cx="8915400" cy="87768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merican Typewriter Condensed"/>
              </a:rPr>
              <a:t>Industrial Revolution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914040" y="3034800"/>
            <a:ext cx="8001000" cy="382284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txBody>
          <a:bodyPr lIns="292680" rIns="274320" tIns="91440" bIns="91440" anchor="t">
            <a:no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entury Gothic"/>
              </a:rPr>
              <a:t>Mr. Rush</a:t>
            </a:r>
            <a:endParaRPr b="0" lang="en-US" sz="1800" spc="-1" strike="noStrike">
              <a:solidFill>
                <a:srgbClr val="595959"/>
              </a:solidFill>
              <a:latin typeface="Century Gothic"/>
            </a:endParaRPr>
          </a:p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entury Gothic"/>
              </a:rPr>
              <a:t>Go Muskies!</a:t>
            </a:r>
            <a:endParaRPr b="0" lang="en-US" sz="1800" spc="-1" strike="noStrike">
              <a:solidFill>
                <a:srgbClr val="595959"/>
              </a:solidFill>
              <a:latin typeface="Century Gothic"/>
            </a:endParaRPr>
          </a:p>
        </p:txBody>
      </p:sp>
      <p:pic>
        <p:nvPicPr>
          <p:cNvPr id="284" name="Picture 3" descr="j0198352.pict"/>
          <p:cNvPicPr/>
          <p:nvPr/>
        </p:nvPicPr>
        <p:blipFill>
          <a:blip r:embed="rId1"/>
          <a:stretch/>
        </p:blipFill>
        <p:spPr>
          <a:xfrm>
            <a:off x="1254240" y="3833640"/>
            <a:ext cx="2311200" cy="236232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4" descr="j0234645.pict"/>
          <p:cNvPicPr/>
          <p:nvPr/>
        </p:nvPicPr>
        <p:blipFill>
          <a:blip r:embed="rId2"/>
          <a:stretch/>
        </p:blipFill>
        <p:spPr>
          <a:xfrm>
            <a:off x="4200480" y="4138560"/>
            <a:ext cx="1498680" cy="154944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5" descr="j0199128.pict"/>
          <p:cNvPicPr/>
          <p:nvPr/>
        </p:nvPicPr>
        <p:blipFill>
          <a:blip r:embed="rId3"/>
          <a:stretch/>
        </p:blipFill>
        <p:spPr>
          <a:xfrm>
            <a:off x="5959440" y="4138560"/>
            <a:ext cx="1994040" cy="124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5T12:32:53Z</dcterms:created>
  <dc:creator>Craig Rush</dc:creator>
  <dc:description/>
  <dc:language>en-US</dc:language>
  <cp:lastModifiedBy>Craig Rush</cp:lastModifiedBy>
  <dcterms:modified xsi:type="dcterms:W3CDTF">2011-10-02T18:24:24Z</dcterms:modified>
  <cp:revision>8</cp:revision>
  <dc:subject/>
  <dc:title>Industrial Revolution</dc:title>
</cp:coreProperties>
</file>